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295-4EE8-474D-A9DB-DD89EF9D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104-2691-4FB0-AF79-BC9472D8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A84-E15A-42ED-8754-0E307204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DB1-E1EE-4C21-83A2-E39D0C50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76D-A452-42E5-AD78-E9055C94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744-3400-4A57-96DB-D9473793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97A-392C-4244-A912-600A075C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E34-5CAC-4697-906D-78A029EB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353-9A00-4E54-996D-EEE4F288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4C6-3A76-4336-BA7A-5ECDA38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164-1D2F-4F75-8DE8-7FCB52B7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E43-50BC-4AA7-94DC-5AA553C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707C-E8B6-4DD9-90F9-17BBBA69D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2:17:21Z</dcterms:created>
  <dc:creator>Patrick J. Mooney</dc:creator>
  <dc:description/>
  <dc:language>en-US</dc:language>
  <cp:lastModifiedBy>Patrick J. Mooney</cp:lastModifiedBy>
  <dcterms:modified xsi:type="dcterms:W3CDTF">2011-09-27T02:20:16Z</dcterms:modified>
  <cp:revision>1</cp:revision>
  <dc:subject/>
  <dc:title>Slide 1</dc:title>
</cp:coreProperties>
</file>